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0C00C-A93F-43F1-99B9-7625D839AA2B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ohn Quincy Adam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rew Jacks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nry Clay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lliam Harris Crawfor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ion of 182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John Quincy Adams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drew Jackson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enry Clay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illiam Harris Crawford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lection of 1824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ion of 182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lection of 1824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ion of 182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lection of 1828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7B6B-FD35-418F-9CDF-45CEECDB9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707F-B565-4063-9D69-67759FB23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0E61-265F-4B3F-B479-A362232BF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5E1F-637E-4A30-8651-2E5FFFD81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920C2-2F90-4EB9-90E8-FFA48D2D7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9F36E-CC63-45A0-9F2D-6B1CC86CB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D48E0-2829-438D-8E8F-3EFE2B355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5B936-79C5-4DD8-8EA6-59B377A18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66DA3-89D7-4EC2-9A15-3D6224407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0F59F-EB97-4B22-9B42-AEEB29843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E9454-D7D8-49D8-8DA0-FAE02359F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987B-5022-4F59-B1D5-32350D09F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9D10C-708E-47F5-8F9E-50C89AAD5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0ED50-6E4E-4E47-9425-A84A96DF5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B428B-8A25-416D-AF59-66F3B9ECE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8D911-CDC0-44FA-9391-FE44BFD7D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9E490-03DD-4E87-945D-4FC7E9C51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B412-15F6-4CFA-A367-B356258B2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7BCC-A819-43B4-B8EC-399346228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F353-903F-499F-B7A2-475ACDB6E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E3E9-A89E-46F3-B5EA-AED0A4D82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F7C3-3BF5-487B-9187-01AADA338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EC95-11A6-4F20-BFAC-32957B68C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2A1B-1289-4036-88A4-8779D441B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B120F-FEF6-4FF9-8A15-9ECDB421EF0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8274F-8CCD-4BBB-8332-54DBD18E80E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5" descr="John Quincy Adams"/>
          <p:cNvPicPr/>
          <p:nvPr/>
        </p:nvPicPr>
        <p:blipFill>
          <a:blip r:embed="rId1"/>
          <a:stretch/>
        </p:blipFill>
        <p:spPr>
          <a:xfrm>
            <a:off x="304920" y="228600"/>
            <a:ext cx="2438280" cy="19540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6"/>
          <p:cNvSpPr/>
          <p:nvPr/>
        </p:nvSpPr>
        <p:spPr>
          <a:xfrm>
            <a:off x="215280" y="2513520"/>
            <a:ext cx="319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John Quincy Adam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318132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" name="Picture 10" descr="Henry Clay"/>
          <p:cNvPicPr/>
          <p:nvPr/>
        </p:nvPicPr>
        <p:blipFill>
          <a:blip r:embed="rId2"/>
          <a:stretch/>
        </p:blipFill>
        <p:spPr>
          <a:xfrm>
            <a:off x="457200" y="3886200"/>
            <a:ext cx="2666880" cy="21574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2" descr="William Harris Crawford"/>
          <p:cNvPicPr/>
          <p:nvPr/>
        </p:nvPicPr>
        <p:blipFill>
          <a:blip r:embed="rId3"/>
          <a:stretch/>
        </p:blipFill>
        <p:spPr>
          <a:xfrm>
            <a:off x="5562720" y="3886200"/>
            <a:ext cx="2590560" cy="20574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4" descr="Andrew Jackson"/>
          <p:cNvPicPr/>
          <p:nvPr/>
        </p:nvPicPr>
        <p:blipFill>
          <a:blip r:embed="rId4"/>
          <a:stretch/>
        </p:blipFill>
        <p:spPr>
          <a:xfrm>
            <a:off x="5715000" y="304920"/>
            <a:ext cx="2666880" cy="217800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15"/>
          <p:cNvSpPr/>
          <p:nvPr/>
        </p:nvSpPr>
        <p:spPr>
          <a:xfrm>
            <a:off x="5905800" y="2589840"/>
            <a:ext cx="267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ndrew Jackson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Rectangle 16"/>
          <p:cNvSpPr/>
          <p:nvPr/>
        </p:nvSpPr>
        <p:spPr>
          <a:xfrm>
            <a:off x="1031040" y="6125040"/>
            <a:ext cx="18889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Henry Clay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Rectangle 17"/>
          <p:cNvSpPr/>
          <p:nvPr/>
        </p:nvSpPr>
        <p:spPr>
          <a:xfrm>
            <a:off x="5000400" y="6171120"/>
            <a:ext cx="390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illiam Harris Crawford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Text Box 18"/>
          <p:cNvSpPr/>
          <p:nvPr/>
        </p:nvSpPr>
        <p:spPr>
          <a:xfrm>
            <a:off x="2133720" y="3276720"/>
            <a:ext cx="419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Verdana"/>
              </a:rPr>
              <a:t>Election of 1824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5" descr="image4"/>
          <p:cNvPicPr/>
          <p:nvPr/>
        </p:nvPicPr>
        <p:blipFill>
          <a:blip r:embed="rId1"/>
          <a:stretch/>
        </p:blipFill>
        <p:spPr>
          <a:xfrm>
            <a:off x="0" y="1752480"/>
            <a:ext cx="4051440" cy="48769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image1"/>
          <p:cNvPicPr/>
          <p:nvPr/>
        </p:nvPicPr>
        <p:blipFill>
          <a:blip r:embed="rId2"/>
          <a:stretch/>
        </p:blipFill>
        <p:spPr>
          <a:xfrm>
            <a:off x="4438800" y="380880"/>
            <a:ext cx="4502160" cy="533412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8"/>
          <p:cNvSpPr/>
          <p:nvPr/>
        </p:nvSpPr>
        <p:spPr>
          <a:xfrm>
            <a:off x="304920" y="38088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Verdana"/>
              </a:rPr>
              <a:t>Election of 182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5" descr="1824"/>
          <p:cNvPicPr/>
          <p:nvPr/>
        </p:nvPicPr>
        <p:blipFill>
          <a:blip r:embed="rId1"/>
          <a:stretch/>
        </p:blipFill>
        <p:spPr>
          <a:xfrm>
            <a:off x="762120" y="228600"/>
            <a:ext cx="7848360" cy="633744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5" descr="image2"/>
          <p:cNvPicPr/>
          <p:nvPr/>
        </p:nvPicPr>
        <p:blipFill>
          <a:blip r:embed="rId1"/>
          <a:stretch/>
        </p:blipFill>
        <p:spPr>
          <a:xfrm>
            <a:off x="4495680" y="0"/>
            <a:ext cx="4800600" cy="44226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image5"/>
          <p:cNvPicPr/>
          <p:nvPr/>
        </p:nvPicPr>
        <p:blipFill>
          <a:blip r:embed="rId2"/>
          <a:stretch/>
        </p:blipFill>
        <p:spPr>
          <a:xfrm>
            <a:off x="0" y="1600200"/>
            <a:ext cx="4441680" cy="495288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8"/>
          <p:cNvSpPr/>
          <p:nvPr/>
        </p:nvSpPr>
        <p:spPr>
          <a:xfrm>
            <a:off x="304920" y="38088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Verdana"/>
              </a:rPr>
              <a:t>Election of 1828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4" descr="032-360580_m_07_01"/>
          <p:cNvPicPr/>
          <p:nvPr/>
        </p:nvPicPr>
        <p:blipFill>
          <a:blip r:embed="rId1"/>
          <a:stretch/>
        </p:blipFill>
        <p:spPr>
          <a:xfrm>
            <a:off x="914400" y="210960"/>
            <a:ext cx="7848720" cy="66470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6T13:45:03Z</dcterms:created>
  <dc:creator>dgreenberg</dc:creator>
  <dc:description/>
  <dc:language>en-US</dc:language>
  <cp:lastModifiedBy>Legion</cp:lastModifiedBy>
  <dcterms:modified xsi:type="dcterms:W3CDTF">2017-07-05T12:39:06Z</dcterms:modified>
  <cp:revision>10</cp:revision>
  <dc:subject/>
  <dc:title>Slide 1</dc:title>
</cp:coreProperties>
</file>